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7BD-8730-413C-941E-F2A1CF77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2BD-D8E2-4180-AC3D-DE6FEF2A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793-B2D6-4308-8E0E-3180F16F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73B-C8B5-4CB1-92A3-18DD9359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44C-ED19-40D7-BCFF-07E1965C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D3F-541F-4763-877F-7AC96F71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2FD4-2338-473D-85A5-0FB6E86B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C52-1E2E-42A5-B2D2-06506E5A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596-4566-4460-A3FD-D1D5879B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A759-500C-4A56-8C8D-004D4447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5C3-0C07-4299-AB53-4277C764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EF4-A3B2-4DE7-89B3-46276CD5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C4CC-2707-472B-A16F-25742D6DB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trippy.png picture by yesenia25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ackle.png picture by yesenia25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princessbathingsuits.jpg disney princesses image by andrethan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disney-princesses.jpg Disney princesses image by beatriz2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disneyprincess1.jpg Disney Princesses image by Alliegir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princesses.jpg Disney Princesses image by alien411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GoldenPrincesses.jpg Disney Princesses image by alien411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clipmki.gif ariel46 image by mandru76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Ariel-The-Little-Mermaid-Wallpaper-.jpg picture by yesenia25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DLS3_004.jpg picture by yesenia25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1628761tn54oqoulu-1.gif picture by yesenia25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The-Little-Mermaid-Ariel-disney--1.jpg picture by yesenia25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The-Little-Mermaid-Ariel-disney-pri.jpg picture by yesenia25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50252.jpg picture by yesenia25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AIandkobe-1.jpg picture by yesenia25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9:16:48Z</dcterms:created>
  <dc:creator> </dc:creator>
  <dc:description/>
  <dc:language>en-US</dc:language>
  <cp:lastModifiedBy> </cp:lastModifiedBy>
  <dcterms:modified xsi:type="dcterms:W3CDTF">2010-02-04T19:30:47Z</dcterms:modified>
  <cp:revision>4</cp:revision>
  <dc:subject/>
  <dc:title>Slide 1</dc:title>
</cp:coreProperties>
</file>